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F59-7E2A-45E1-B1FA-686EABB1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C84-D493-4E9B-A3D2-B0253FBF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AF1-6781-43C3-9A47-177E1ECE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151D-B400-415D-9E65-8258F792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D2E-93CB-4C43-8A2F-7EA981CE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F96-68E7-4D80-829A-8F843D2E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9BF-A948-4D1A-99ED-6ADDF021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2DB-D125-4F4B-831B-6820FDC3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00A-A77E-4A19-87C4-442A849E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BA4-4EF2-4E1C-905F-434F4EDD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818-0736-43F8-9F6A-C4051F2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A45-E4B9-4803-BDF4-E59A4F8E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02F5-208D-4E27-B1D2-FBA144834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lberta High School Diploma Graduation Requirements</a:t>
            </a: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Minimum Requir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100 Cred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English Language Arts 30-1 or 30-2 (15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Social Studies 30 or 33 (15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Math 20 Pure or 20 Applied or Math 2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(10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Science 20,  Science 24, Biology 20, Chemistry 20  or Physics 20 (10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Physical Education 10 (3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CALM (3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10 CREDITS IN ANY COMB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areer and Technology Studies (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ine 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econd Langu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hysical Education 20 and/or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Locally Developed Courses in CTS, fine arts, second languages, or K&amp;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K&amp;E occupational cour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10 CREDITS IN ANY 30 LEVEL COURSE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(PLUS English and Social Studi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ay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0 Level Maths and Sc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5 Level locally developed cour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dvanced Level (3000) CTS cour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5 Level Work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0-4 Level K&amp;E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5 Level R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0 Level Green Certific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CERTIFICATE OF HIGH SCHOOL ACHIEVEMENT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Minimum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80 Cre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English Language Arts 20-2 or 30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athematics 14 or 20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cience 14 or 20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ocial Studies 10-2 or 20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Physical Education 10 (3 Credi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ALM 20 (3 Credi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PLUS 5 CREDITS I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Knowledge and Employability occupation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Career and Technology Studies (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locally developed course with an occupational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AND 5 CREDITS I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Knowledge and Employability Workplace Practicum cours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Work Experience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Green Certificate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Registered Apprenticeship Program (RAP)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23:18:18Z</dcterms:created>
  <dc:creator>Norma Thompson</dc:creator>
  <dc:description/>
  <dc:language>en-US</dc:language>
  <cp:lastModifiedBy>owner</cp:lastModifiedBy>
  <dcterms:modified xsi:type="dcterms:W3CDTF">2010-11-19T18:37:08Z</dcterms:modified>
  <cp:revision>19</cp:revision>
  <dc:subject/>
  <dc:title>Alberta High School Diploma Graduation Requirements</dc:title>
</cp:coreProperties>
</file>